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05335-5CA0-416D-AFD2-D92C5F14B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A4309-9226-4D86-A30E-0029E130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61623-DBB0-4CDA-A0D2-044B9F721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F7A20-9DB0-4694-8F3C-A3D8C646E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202A5-591B-4AE0-A5E9-3DA655D2B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D83F2-39D6-49B8-B6CB-69C24CAB1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882B6-D205-4F30-8E79-9A6E0BA28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EB827-5193-4721-80C4-AC86E2ADD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EDA39-2550-438C-9628-8C0164DC4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8F5F3-3F30-4B23-9C96-C71D84991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ADC9F-DD40-48F2-B86F-7C75C39E0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5558B-7068-4DA8-8B3A-E1A6E1ED0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93741-7F5F-4275-9FA5-8642E4388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3A98F-CFFA-4F6C-B866-65BC4CA3B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D6BB-A948-4ABB-B59C-D3CA7890D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F1B9F-AEB1-40F0-B6E5-FCAEB9E4E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6F632-42DF-4C0C-8A80-468F8FC49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B4BA-4D90-44F1-953A-CD11F83F0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6F2DB-FC2D-4127-8B8C-B0B65A04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93B79-6C7C-4B37-9811-C7733C059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1F1C-18A1-414F-8ACD-72EB1E00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CCE45-0DC8-470C-BAE2-81FC4A7EC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F3CF-A363-420A-AB77-C3EB3623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176C-61BE-46B1-8D4B-0D3039750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92E5-09CC-439B-90D5-60AEFB52519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FAA9-2EC2-4D21-AAD1-42801B726DC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Image:Wwi-allied-casualties.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Wwi-central-casualties.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ifferent types of war</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usually is the overthrow of the government.  May initially involved a small part of the population, but may grow to involve a lager part of the population.  Usually limited to one country, with the people of that country initiating the war.  War does not involve other countries initially but they may get involved because of the consequenc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war in which all available resources of weapons and personnel are employed; a war conducted without scruple or limitation.</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fare of the 20th century; vast resources and emotional commitments of belligerent nations were marshaled to support military effort; resulted from impact of industrialization on the military effort reflecting technological innovation and organizational capacity.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is the complete defeat and in most cases th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of a total war is the complete and total destruction of the enemy.  As a result all the industrial resources and man (woman) power of the country are focused on this goal. The victory is achieved by any means possi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quences of Total War</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533520" y="2057040"/>
            <a:ext cx="8153280" cy="3809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st identifiable consequence of total war in modern times has been the inclusion of civilians and civilian infrastructure as targets in destroying a country's ability to engage in war.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rgeting of civilians developed from two distinct theories. The first theory was that if enough civilians were killed, factories could not functio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econd theory was that if civilians were killed, the country would be so demoralized that it would have no ability to wage further wa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tal war also resulted in the mobilization of the home front. Propaganda became a required component of total war in order to boost production and maintain morale. Rationing took place to provide more material for waging wa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consequence was the expansion of the peace time military. A navy could not be built overnight, and it had to be large enough to fight any potential enemy. This led to the dreadnought arms race before World War 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justify the huge expenditure, populations had to become accustomed to thinking of the most likely potential enemy, as an enemy, which helped to foster war hysteria and jingoism.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 standing armies for countries with land borders close to a potential enemy and strong navies for maritime powers were the only way to prevent defeat before the economy could be mobilize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nd World War One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most the whole of Europe mobilized to conduct </a:t>
            </a:r>
            <a:r>
              <a:rPr b="1" lang="en-US" sz="3100" spc="-1" strike="noStrike">
                <a:solidFill>
                  <a:srgbClr val="ffffff"/>
                </a:solidFill>
                <a:latin typeface="Arial"/>
              </a:rPr>
              <a:t>World War I</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ng men were removed from production jobs, and were replaced by wome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ationing occurred on the home fro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e of the features of Total War in Britain was the use of propaganda posters to divert all attention to the War on the home fro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Posters were used to influence people's decision on what to eat, what occupations to take (Women were used as nurses and in munitions factories), and to change the attitude of support towards the war effor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ter the failure of the Battle of Neuve Chapelle, the large British offensive in March 1915, the British Commander-in-Chief Field Marshal Sir John French claimed that it failed due to a lack of shell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led to the Shell Crisis of 1915 which brought down the Liberal British government under the Premiership of Henry Asquith.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formed a new coalition government dominated by Liberals and appointed Lloyd George as Minister of Muni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t was a recognition that the whole economy would have to be geared for war if the Allies were to prevail on the Western Fro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young men left the farms for the front, domestic food production in Britain and Germany fel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Britain the response was to import more food, which was done despite the German introduction of unrestricted submarine warfare, and to introduce rationing.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oyal Navy's blockade of German ports prevented Germany from importing food, and the Germans failed to introduce food rationing. German capitulation was hastened in 1918 by the worsening food crises in Germ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World War One </a:t>
            </a:r>
            <a:endParaRPr b="0" lang="en-US" sz="4400" spc="-1" strike="noStrike">
              <a:solidFill>
                <a:srgbClr val="ffffff"/>
              </a:solidFill>
              <a:latin typeface="Times New Roman"/>
            </a:endParaRPr>
          </a:p>
        </p:txBody>
      </p:sp>
      <p:pic>
        <p:nvPicPr>
          <p:cNvPr id="124" name="" descr=""/>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Allied Powers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7" name="" descr="Pie chart comparing casualties of the Allied Powers">
            <a:hlinkClick r:id="rId1"/>
          </p:cNvPr>
          <p:cNvPicPr/>
          <p:nvPr/>
        </p:nvPicPr>
        <p:blipFill>
          <a:blip r:embed="rId2"/>
          <a:stretch/>
        </p:blipFill>
        <p:spPr>
          <a:xfrm>
            <a:off x="1905120" y="2173320"/>
            <a:ext cx="5486400" cy="36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Central Powers </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30" name="" descr="Pie chart comparing casualties of the Central Powers">
            <a:hlinkClick r:id="rId1"/>
          </p:cNvPr>
          <p:cNvPicPr/>
          <p:nvPr/>
        </p:nvPicPr>
        <p:blipFill>
          <a:blip r:embed="rId2"/>
          <a:stretch/>
        </p:blipFill>
        <p:spPr>
          <a:xfrm>
            <a:off x="1600200" y="1981080"/>
            <a:ext cx="600084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inancial cost of the war is said to have amounted to almost $38 billion for Germany alone, Austria-Hungary $20 billio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tain spent $35 billion, France $24 billion, Russia $22 billion, USA $22 billion and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otal the war cost the Allies around $125 billion; the Central Powers $60 bill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urces </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rpted from The Oxford Interactive Encyclopedia. Developed by The Learning Company, Inc. Copyright (c) 1997 TLC Properties Inc. All rights reserv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en.wikipedia.org/wiki/Total_war#Development_of_the_concept_of_Total_Wa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firstworldwar.com/features/balkan_causes.htm</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t be fought within the borders of one country. Population usually splits into two separate “camps”.  Outside influences may play a large part in the war. Objectives are usually limited to specific goals regarding the control of the government and th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ually limited to one country or even one region.  Not the official army of a state, but may be financed by an outside government.  Objective is to cause damage to the enemy by striking key tactical targets.  Undermining the confidence of the people in the government can also be goal. Guerilla soldiers are not just limited to young me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bjective of the war is limited to specific goals and targets.  Gaining land, protecting ones interest, removing an enemy threat.  There is usually not a complete focus of the resources of the country in order to achieve the goal.  The goal can be achieved without the complet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5:02:55Z</dcterms:created>
  <dc:creator>aitkenc</dc:creator>
  <dc:description/>
  <dc:language>en-US</dc:language>
  <cp:lastModifiedBy>aitkenc</cp:lastModifiedBy>
  <dcterms:modified xsi:type="dcterms:W3CDTF">2005-10-04T17:09:17Z</dcterms:modified>
  <cp:revision>28</cp:revision>
  <dc:subject/>
  <dc:title>Different types of war</dc:title>
</cp:coreProperties>
</file>