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096DE-3B3A-47C7-9D14-401A79D82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1349A-5B13-4E18-91A3-6C3027A0B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4AC11-63E6-4297-8BA7-BB68892ED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56312-6B38-4A5E-88D0-D7C489BAB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66CFB-0E78-4FC6-BD57-3D6E5BDF3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26B2E-C7DF-41D5-A9A8-629022BDF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E88DD-88FC-4222-9F04-44288C49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9C34B-C873-4B17-B314-6484BA89B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36137-B52F-4513-B03C-7F931B9FC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7E80-C031-43F8-B790-0C89FFE19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CE99B-E5CA-44AD-AA12-BF1DDD40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5C21-8E49-4C77-A2EB-B8C2CF924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74B5-EA4D-4776-8CCF-96DB0214B3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pact"/>
          <p:cNvPicPr/>
          <p:nvPr/>
        </p:nvPicPr>
        <p:blipFill>
          <a:blip r:embed="rId1"/>
          <a:stretch/>
        </p:blipFill>
        <p:spPr>
          <a:xfrm>
            <a:off x="1849320" y="0"/>
            <a:ext cx="5694480" cy="6477120"/>
          </a:xfrm>
          <a:prstGeom prst="rect">
            <a:avLst/>
          </a:prstGeom>
          <a:ln w="0">
            <a:noFill/>
          </a:ln>
        </p:spPr>
      </p:pic>
      <p:sp>
        <p:nvSpPr>
          <p:cNvPr id="42"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 Nazi – Soviet Non-Aggression 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2952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ugust 23,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ugust 14, 1939, German Foreign Minister Joachim von Ribbentrop contacted the Soviets to arrange a deal.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bbentrop met with the Soviet Foreign Minister Vyacheslav Molotov in Moscow and together they arranged two pacts - the economic agreement and the Nazi-Soviet Non-Aggression 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conomic Agreeme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pact was an economic agreement, which Ribbentrop and Molotov signed on August 19, 1939.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ic agreement committed the Soviet Union to provide food products as well as raw materials to Germany in exchange for furnished products such as machinery from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first years of the war, this economic agreement helped Germany bypass the British block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ugust 23, 1939, four days after the economic agreement was signed and a little over a week before the beginning of World War II, Ribbentrop and Molotov signed the Nazi-Soviet Non-Aggression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is also referred to as the German-Soviet Non-Aggression Pact and the Ribbentrop-Molotov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ly, this agreement stated that the two countries - Germany and the Soviet Union - would not attack each other. If there were ever a problem between the two countries, it was to be handled amicabl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was supposed to last for ten years; it lasted for less than tw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meant by the terms of the pact was that if Germany attacked Poland, then the Soviet Union would not come to its ai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f Germany went to war against the West (especially France and Great Britain) over Poland, the Soviets were guaranteeing that they would not enter the war, not opening a second front for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this agreement, Ribbentrop and Molotov added a secret protocol onto the pact - a secret addendum whose existence was denied by the Soviets until 198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8" descr="Hitler-&amp;-Stalin-honeymoon_8BJIPdon"/>
          <p:cNvPicPr/>
          <p:nvPr/>
        </p:nvPicPr>
        <p:blipFill>
          <a:blip r:embed="rId1"/>
          <a:stretch/>
        </p:blipFill>
        <p:spPr>
          <a:xfrm>
            <a:off x="2133720" y="990720"/>
            <a:ext cx="4952880" cy="46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Secret Protoc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ret protocol held an agreement between the Nazis and Soviets that greatly affected Eastern Europ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oviets for agreeing to not join the possible future war, Germany was giving the Soviets the Baltic States (Estonia, Latvia, and Lithuania).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nd was also to be divided between the two - along the Narew, Vistula, and San riv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21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territories gave the Soviet Union the buffer (in land) that it wanted to feel safe from an invasion from the West. It would need that buffer in 1941. </a:t>
            </a:r>
            <a:endParaRPr b="0" lang="en-US" sz="2800" spc="-1" strike="noStrike">
              <a:solidFill>
                <a:srgbClr val="000000"/>
              </a:solidFill>
              <a:latin typeface="Arial"/>
            </a:endParaRPr>
          </a:p>
        </p:txBody>
      </p:sp>
      <p:pic>
        <p:nvPicPr>
          <p:cNvPr id="65" name="Picture 7" descr="aggresspact"/>
          <p:cNvPicPr/>
          <p:nvPr/>
        </p:nvPicPr>
        <p:blipFill>
          <a:blip r:embed="rId1"/>
          <a:stretch/>
        </p:blipFill>
        <p:spPr>
          <a:xfrm>
            <a:off x="1752480" y="2259000"/>
            <a:ext cx="5486400" cy="41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acts of the Pac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azis attacked Poland in the morning on September 1, 1939, the Soviets stood by and watched. Two days later, the British declared war on Germany and World War II had begun.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September 17, the Soviets rolled into eastern Poland to occupy their "sphere of influence" designated in the secret protocol.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zi-Soviet Non-Aggression Pact, the Soviets did not join the fight against Germany, thus Germany was successful it its attempt to safeguard itself from a two-front war.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zis and the Soviets kept the terms of the pact and the protocol until Germany's surprise attack and invasion of the Soviet Union on June 22, 194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7" descr="Pact"/>
          <p:cNvPicPr/>
          <p:nvPr/>
        </p:nvPicPr>
        <p:blipFill>
          <a:blip r:embed="rId1"/>
          <a:stretch/>
        </p:blipFill>
        <p:spPr>
          <a:xfrm>
            <a:off x="1143000" y="496800"/>
            <a:ext cx="6934320" cy="534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9, Hitler was preparing for war. Though he was hoping to acquire Poland without force (as he had annexed Austria the year before), Hitler was planning against the possibility of a two front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fighting a two front war in World War I had split Germany's forces, it had weakened and undermined their offensive; thus, played a large role in Germany losing the First World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was determined not to repeat the same mistakes. So, he planned ahead and made a pact with the Soviets - the Nazi-Soviet Non-Aggression 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1930s Joseph Stalin became increasingly concerned that the Soviet Union would be invaded by Germany. Stalin believed the best way to of dealing with Germany was to form an anti-fascist alliance with countries in the west.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lin argued that even Adolph Hitler would not start a war against a unite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ille Chamberlain, the British prime minister, was not enthusiastic about forming an alliance with the Soviet Union. He wrote to a friend: "I must confess to the most profound distrust of Russia. I have no belief whatever in her ability to maintain an effective offensive, even if she wanted to. And I distrust her motives, which seem to me to have little connection with our ideas of liberty, and to be concerned only with getting everyone else by the 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85440"/>
            <a:ext cx="8229600" cy="5715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ton Churchill, an outspoken critic of British foreign policy, agreed with Joseph Stalin:</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no means of maintaining an eastern front against Nazi aggression without the active aid of Russia. Russian interests are deeply concerned in preventing Herr Hitler's designs on eastern Europe. It should still be possible to range all the States and peoples from the Baltic to the Black sea in one solid front against a new outrage of invasion. Such a front, if established in good heart, and with resolute and efficient military arrangements, combined with the strength of the Western Powers, may yet confront Hitler, Goering, Himmler, Ribbentrop, Goebbels and co. with forces the German people would be reluctant to challe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s own interpretation of Britain's rejection of his plan for an antifascist alliance, was that they were involved in a plot with Germany against the Soviet Union.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lief was reinforced when Neville Chamberlain met with Adolph Hitler at Munich in September, 1938, and gave into his demands for the Sudetenland in Czechoslovakia.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Stalin now believed that the main objective of British foreign policy was to encourage Germany to head east rather than w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5" descr="RUSnazipact"/>
          <p:cNvPicPr/>
          <p:nvPr/>
        </p:nvPicPr>
        <p:blipFill>
          <a:blip r:embed="rId1"/>
          <a:stretch/>
        </p:blipFill>
        <p:spPr>
          <a:xfrm>
            <a:off x="1676520" y="466560"/>
            <a:ext cx="5943600" cy="4913640"/>
          </a:xfrm>
          <a:prstGeom prst="rect">
            <a:avLst/>
          </a:prstGeom>
          <a:ln w="0">
            <a:noFill/>
          </a:ln>
        </p:spPr>
      </p:pic>
      <p:sp>
        <p:nvSpPr>
          <p:cNvPr id="51" name="Rectangle 6"/>
          <p:cNvSpPr/>
          <p:nvPr/>
        </p:nvSpPr>
        <p:spPr>
          <a:xfrm>
            <a:off x="1218960" y="5790600"/>
            <a:ext cx="6560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Low, What, no chair for me? (30th September, 1938)</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457200"/>
            <a:ext cx="5486400" cy="5565600"/>
          </a:xfrm>
          <a:prstGeom prst="rect">
            <a:avLst/>
          </a:prstGeom>
          <a:ln w="0">
            <a:noFill/>
          </a:ln>
        </p:spPr>
      </p:pic>
      <p:sp>
        <p:nvSpPr>
          <p:cNvPr id="53" name="Rectangle 3"/>
          <p:cNvSpPr/>
          <p:nvPr/>
        </p:nvSpPr>
        <p:spPr>
          <a:xfrm>
            <a:off x="6095880" y="1981080"/>
            <a:ext cx="281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n cartoon about Munich: Chamberlain and Daladier act as traffic policemen; the sign-post reads 'Left - Western Europe, Right - USS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realized that war with Germany was inevitable. However, to have any chance of victory he needed time to build up his armed forc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way he could obtain time was to do a deal with Hitler. Stalin was convinced that Hitler would not be foolish enough to fight a war on two fronts. If he could persuade Hitler to sign a peace treaty with the Soviet Union, Germany was likely to invade Western Europe instea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was also concerned about Japan invading from Manchu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7:43:36Z</dcterms:created>
  <dc:creator>aitkenc</dc:creator>
  <dc:description/>
  <dc:language>en-US</dc:language>
  <cp:lastModifiedBy>Colin Aitken</cp:lastModifiedBy>
  <dcterms:modified xsi:type="dcterms:W3CDTF">2010-05-09T07:49:29Z</dcterms:modified>
  <cp:revision>41</cp:revision>
  <dc:subject/>
  <dc:title>The Nazi – Soviet Pact </dc:title>
</cp:coreProperties>
</file>